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6DC-122E-4D29-9752-9EA017F9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DDF-F56B-40D1-990B-3776F191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B62-B024-4AD7-B15D-402A809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177-7560-4602-BA1F-16FF1455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F2E-6432-446D-831E-48D2ECAA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669-5E9E-448E-B638-08D2968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199-BF72-4E7A-A1AB-E0C9AE5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0A7-BB43-46BD-A8A1-20518723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ACB-77F1-4DE5-B160-6F9EEB6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C12-4122-423A-8634-D653145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12B-BD99-4F6F-A25E-9BA1126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130-87E3-4B35-9139-5CD002F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0CEE-9CEC-45AB-BF57-6988A819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/Impact Matri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6920" y="1338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97200" y="6062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16200000">
            <a:off x="-698760" y="2905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4280" y="46483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240" y="3505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13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8040" y="560556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14760" y="5638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94440" y="56055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666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172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886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1148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638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2952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8077320" y="1294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59840" y="144792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240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612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2880" y="2895480"/>
            <a:ext cx="11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2400" y="289548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2880" y="4267080"/>
            <a:ext cx="11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56600" y="4343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2:32:01Z</dcterms:created>
  <dc:creator>IT Department</dc:creator>
  <dc:description/>
  <dc:language>en-US</dc:language>
  <cp:lastModifiedBy>schwalbe</cp:lastModifiedBy>
  <dcterms:modified xsi:type="dcterms:W3CDTF">2005-10-14T18:48:56Z</dcterms:modified>
  <cp:revision>11</cp:revision>
  <dc:subject/>
  <dc:title>Figure 10-3. Probability/Impact Matrix</dc:title>
</cp:coreProperties>
</file>