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3F1-2521-4C7B-9277-D95EE927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4E2-269B-4AA2-B3D8-16C3D805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F7A-87DC-4877-B5B4-56D2485F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CCD-45F1-4BA7-8955-3FB15C5C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C0D-6D85-4B32-8A66-79CD1AC8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3C7-348A-4CA1-9FD9-53335F53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4F5-BA09-4F70-ADB5-D150CE5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51F-8CD8-4705-ADE6-F4CE0166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665-5DB6-4127-8193-42690888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775-AD22-4126-B49A-C9FC3A8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1AD-3550-4186-9C14-ACC31256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7A9-E48A-416F-A6FD-83D78D0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4C22-A055-45E6-B035-FD3237EDC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82880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182880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276720"/>
            <a:ext cx="1524240" cy="14475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3429000"/>
            <a:ext cx="1447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3429000"/>
            <a:ext cx="14475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og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5334120"/>
            <a:ext cx="1447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7480" y="3581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4800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772400" y="4723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22200" y="121932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sure to enter your own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5:48:27Z</dcterms:created>
  <dc:creator>schwalbe</dc:creator>
  <dc:description/>
  <dc:language>en-US</dc:language>
  <cp:lastModifiedBy>schwalbe</cp:lastModifiedBy>
  <dcterms:modified xsi:type="dcterms:W3CDTF">2005-10-14T21:49:41Z</dcterms:modified>
  <cp:revision>104</cp:revision>
  <dc:subject/>
  <dc:title>Slide 1</dc:title>
</cp:coreProperties>
</file>