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FDB-0301-4E98-B2FC-894DB21F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472-F296-4177-A254-71C8BBB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FE0-4689-4025-93A1-2A5828B1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AD1-9C43-43BC-9435-5D505073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E1A-CBD3-44B3-9B66-4F36BD99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0A3-192D-4468-ABF1-57AE3F11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0C4-81C5-444D-B9E8-565706C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689-55B5-4A8F-A809-C4FD7070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64E-19C8-4359-9501-AAC36F7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E75-D01A-4F5A-A726-F88E65A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247-D36F-46B7-9DD8-CBD1B22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E76-D7C6-4D8E-BDF2-1B43E25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BE2E-22F7-4537-846D-68C4C6AA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 and Effect Diagra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22760" y="32767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65760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75248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990720" y="3657240"/>
            <a:ext cx="19810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1676520"/>
            <a:ext cx="18288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809880" y="3657600"/>
            <a:ext cx="182880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0600" y="61754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4200" y="6099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898000">
            <a:off x="4232160" y="2016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810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638680" y="205740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898000">
            <a:off x="1127880" y="1997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758400">
            <a:off x="671040" y="45100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758400">
            <a:off x="3538800" y="451944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/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18280" y="224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758400">
            <a:off x="5075640" y="201096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813600">
            <a:off x="2971440" y="190476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495320" y="5105160"/>
            <a:ext cx="1219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924400">
            <a:off x="4479840" y="55774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s too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7432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813600">
            <a:off x="259920" y="198432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littl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" y="4191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872800">
            <a:off x="229680" y="3938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between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904760" y="48769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3225600">
            <a:off x="1901880" y="505620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ver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819520" y="304812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902200">
            <a:off x="2599920" y="294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lin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34340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924400">
            <a:off x="5089680" y="481536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s too 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7520" y="11430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Change the text in the diagram based on your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5:48:27Z</dcterms:created>
  <dc:creator>schwalbe</dc:creator>
  <dc:description/>
  <dc:language>en-US</dc:language>
  <cp:lastModifiedBy>schwalbe</cp:lastModifiedBy>
  <dcterms:modified xsi:type="dcterms:W3CDTF">2005-10-14T20:48:23Z</dcterms:modified>
  <cp:revision>60</cp:revision>
  <dc:subject/>
  <dc:title>Slide 1</dc:title>
</cp:coreProperties>
</file>